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5BB-7A05-4ACF-AB34-E2A3CE18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49A-8573-4BD8-890A-A8881747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1D4-EF45-41D5-A2DD-8E3B607B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583-C5EF-4C88-BFEB-5316A74E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34F-FE7B-4AD1-AB07-A213A97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CAB-E23B-4ACD-A70E-7DA45D7B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BEF-A614-4DDE-A7BF-9FB227D3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A44-6E2B-4C17-9DDC-EC5F7815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BCE-7A12-4DD9-AB74-2AEF7377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608-5B19-4C9C-830F-A406211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644-07DF-4D5F-8FAC-BA15883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45D-B54C-47BE-BA96-5835FD4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5A2C-6B9A-46B4-924A-AE659F9CD0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2205000"/>
            <a:ext cx="7201080" cy="2519280"/>
          </a:xfrm>
          <a:prstGeom prst="rect">
            <a:avLst/>
          </a:prstGeom>
          <a:solidFill>
            <a:srgbClr val="fee0a4"/>
          </a:solidFill>
          <a:ln w="50760">
            <a:solidFill>
              <a:srgbClr val="f79646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</a:rPr>
              <a:t>Czy wiesz, że każdy ułamek zwykły można przedstawić w postaci sumy różnych ułamków o liczniku 1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360" y="259920"/>
            <a:ext cx="86979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Każdy ułamek o liczniku 1 można  zapisać w postaci sumy dwóch różnych ułamków również o liczniku 1 stosując  pewien  prosty schemat. Przyjrzyj się poniższym przykładom. Wykonaj polec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i odpowiedz na pytania, a poznasz ten schem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2"/>
              <p:cNvSpPr txBox="1"/>
              <p:nvPr/>
            </p:nvSpPr>
            <p:spPr>
              <a:xfrm>
                <a:off x="684360" y="3716280"/>
                <a:ext cx="17269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3564000" y="3716280"/>
                <a:ext cx="19191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6443640" y="3716280"/>
                <a:ext cx="19749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360" y="260280"/>
            <a:ext cx="8893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 każdym przykładzie zwróć uwagę na mianownik pierwsz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i drugiego ułamka. Co zauważasz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Jaki dostrzegasz związek między mianownikami pierwsz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i drugiego ułamka a mianownikiem trzeciego ułamka w każdym przykładzi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900000" y="1484280"/>
                <a:ext cx="1365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3780000" y="1484280"/>
                <a:ext cx="1504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6659640" y="1484280"/>
                <a:ext cx="158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Prostokąt 6"/>
          <p:cNvSpPr/>
          <p:nvPr/>
        </p:nvSpPr>
        <p:spPr>
          <a:xfrm>
            <a:off x="826920" y="1989000"/>
            <a:ext cx="1008360" cy="3603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ostokąt 7"/>
          <p:cNvSpPr/>
          <p:nvPr/>
        </p:nvSpPr>
        <p:spPr>
          <a:xfrm>
            <a:off x="3708360" y="1989000"/>
            <a:ext cx="1008000" cy="36036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8"/>
          <p:cNvSpPr/>
          <p:nvPr/>
        </p:nvSpPr>
        <p:spPr>
          <a:xfrm>
            <a:off x="6588000" y="1989000"/>
            <a:ext cx="1008360" cy="36036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052640" y="5084640"/>
                <a:ext cx="13651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3932280" y="5084640"/>
                <a:ext cx="1504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6811920" y="5084640"/>
                <a:ext cx="158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Prostokąt 12"/>
          <p:cNvSpPr/>
          <p:nvPr/>
        </p:nvSpPr>
        <p:spPr>
          <a:xfrm>
            <a:off x="979560" y="5589720"/>
            <a:ext cx="1008000" cy="3603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13"/>
          <p:cNvSpPr/>
          <p:nvPr/>
        </p:nvSpPr>
        <p:spPr>
          <a:xfrm>
            <a:off x="3860640" y="5589720"/>
            <a:ext cx="1008360" cy="36036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14"/>
          <p:cNvSpPr/>
          <p:nvPr/>
        </p:nvSpPr>
        <p:spPr>
          <a:xfrm>
            <a:off x="6740640" y="5589720"/>
            <a:ext cx="1008000" cy="36036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15"/>
          <p:cNvSpPr/>
          <p:nvPr/>
        </p:nvSpPr>
        <p:spPr>
          <a:xfrm>
            <a:off x="2050920" y="5589720"/>
            <a:ext cx="433440" cy="43164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2"/>
          <p:cNvSpPr/>
          <p:nvPr/>
        </p:nvSpPr>
        <p:spPr>
          <a:xfrm>
            <a:off x="7885080" y="5516640"/>
            <a:ext cx="503280" cy="5047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23"/>
          <p:cNvSpPr/>
          <p:nvPr/>
        </p:nvSpPr>
        <p:spPr>
          <a:xfrm>
            <a:off x="4932360" y="5516640"/>
            <a:ext cx="503280" cy="5047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8720" y="260280"/>
            <a:ext cx="8675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Zastosuj odkryty schemat  i zapisz w mianownikach ułamków odpowiednie licz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684360" y="1844640"/>
                <a:ext cx="1439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3780000" y="1844640"/>
                <a:ext cx="15127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6659640" y="1844640"/>
                <a:ext cx="1495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684360" y="3992400"/>
                <a:ext cx="14396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3780000" y="4005360"/>
                <a:ext cx="1452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6659640" y="4005360"/>
                <a:ext cx="1601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Każdy ułamek o liczniku 1 można również przedstawić w postaci sumy trzech ułamków o liczniku 1. Przyjrzyj się poniższym przykładom i uzupełnij zda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 każdym przykładzie mianownik drugiego ułamka (licząc od lewej strony) jest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……………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większy od mianownika pierwszego ułam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 każdym przykładzie mianownik trzeciego ułamka (licząc od lewej strony) jest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…………….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iększy od mianownika pierwszego ułam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684360" y="2205000"/>
                <a:ext cx="1844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3708360" y="2205000"/>
                <a:ext cx="1793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6443640" y="2205000"/>
                <a:ext cx="1970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Prostokąt zaokrąglony 9"/>
          <p:cNvSpPr/>
          <p:nvPr/>
        </p:nvSpPr>
        <p:spPr>
          <a:xfrm>
            <a:off x="2627280" y="3716280"/>
            <a:ext cx="136836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rostokąt zaokrąglony 10"/>
          <p:cNvSpPr/>
          <p:nvPr/>
        </p:nvSpPr>
        <p:spPr>
          <a:xfrm>
            <a:off x="2627280" y="5516640"/>
            <a:ext cx="136836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 każdym przykładzie mianownik czwartego ułamka (licząc od lewej strony) jest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……………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iększy od mianownika pierwszego ułam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Aby ułamek o liczniku 1 zapisać w postaci sumy trzech różnych ułamków również o liczniku 1 wystarcz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Zastosuj odkryty schemat i zapisz w mianownikach ułamków odpowiednie licz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rostokąt zaokrąglony 4"/>
          <p:cNvSpPr/>
          <p:nvPr/>
        </p:nvSpPr>
        <p:spPr>
          <a:xfrm>
            <a:off x="2627280" y="692280"/>
            <a:ext cx="1368360" cy="43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ostokąt zaokrąglony 5"/>
          <p:cNvSpPr/>
          <p:nvPr/>
        </p:nvSpPr>
        <p:spPr>
          <a:xfrm>
            <a:off x="468360" y="3213000"/>
            <a:ext cx="820728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539640" y="5445000"/>
                <a:ext cx="1702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771640" y="5445000"/>
                <a:ext cx="1703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4932360" y="5445000"/>
                <a:ext cx="1701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7093080" y="5445000"/>
                <a:ext cx="1676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Wpisz do koła brakujący ułam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Wykres 3" descr=""/>
          <p:cNvPicPr/>
          <p:nvPr/>
        </p:nvPicPr>
        <p:blipFill>
          <a:blip r:embed="rId1"/>
          <a:stretch/>
        </p:blipFill>
        <p:spPr>
          <a:xfrm>
            <a:off x="1374840" y="1671480"/>
            <a:ext cx="6299280" cy="4267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5292720" y="2708280"/>
                <a:ext cx="298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4932360" y="4437000"/>
                <a:ext cx="293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851280" y="2349360"/>
                <a:ext cx="320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3059280" y="3284640"/>
                <a:ext cx="3204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pole tekstowe 8"/>
          <p:cNvSpPr/>
          <p:nvPr/>
        </p:nvSpPr>
        <p:spPr>
          <a:xfrm>
            <a:off x="3492360" y="450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0:37:31Z</dcterms:created>
  <dc:creator>jg</dc:creator>
  <dc:description/>
  <dc:language>en-US</dc:language>
  <cp:lastModifiedBy>Rycho Rych</cp:lastModifiedBy>
  <dcterms:modified xsi:type="dcterms:W3CDTF">2013-08-28T22:57:32Z</dcterms:modified>
  <cp:revision>19</cp:revision>
  <dc:subject/>
  <dc:title>Slajd 1</dc:title>
</cp:coreProperties>
</file>